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167-EA94-41B7-94AB-ED7ED155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1551-B6BE-4E8E-ABE2-0323B9C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00C-5293-4183-9F9B-68CF8A19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921-82C1-43A9-B56F-EA32BE22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BB7A-7029-4FA7-A310-EA54B013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ED16-7728-46E9-82DE-2BCB596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B22B-9347-4BF2-95ED-22A55E9C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FE21-961B-4CB8-BFDD-D88E0E22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5682-954C-49F3-9E30-4624EC16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C879-ED6C-450E-9428-1FA9131A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60D5-43A4-4F12-98FC-C0DF96C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795-16F5-4447-8D09-6822C939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11FF-05DE-42EF-A17B-9505E20A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9E70-B107-4768-ADF8-2B1F7E6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D604-937C-485A-83D9-FBBE52D2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3530-BBD7-44EA-AB08-AD2632636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D053-464A-44D7-87F7-26062BA9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BF0E2-35D0-4B4E-93E4-FF143554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E0731-4017-4447-87A1-2D3F7026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1D37-A761-4FAC-BAD8-DE68A3D7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BC2B9-71D1-4207-8032-869B8F5C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2343-1B60-4FC8-8069-E8C4096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B2D-DA62-4DBA-B670-6BCC5FC9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6A27D-11BE-4361-A9E8-F91956A0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D8F6A-966E-45EA-A07C-8B9C08B1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9750-746F-4910-AAED-7F2F9F00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E831-6AAF-4C53-8690-228A4DE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21EC-1D77-456E-A629-2E2C83FA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2932-85E9-4E8F-9288-E8F70578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7AE6-F2BC-46B0-BBEA-D813D949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3BC8-3538-4F18-B7B6-6DC58FE6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3B44A-6E3B-4958-9291-2414ACE6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86293-12CB-4573-973C-178E0823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E90-31A2-460E-B61D-99A49406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9CEBA-6601-4D34-A3DA-DA9F17A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B820-EB8D-4588-9BC7-54092B73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CCE4-3A81-4754-93AE-7229D18A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70A77-E7FC-4087-B97A-ACC6FC01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F3591-2BF0-4999-81F6-5DDD62B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C0E64-9126-434A-9F68-CAB8ED56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AC5D9-DFE4-44B8-B775-01771DC2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B4F9D-7C4A-4940-9A4A-DD9DEEAF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CE228-1572-4EB0-A16D-628D0EFE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8B1-6973-4491-9AA5-4B92468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D46-0D39-4582-9EC3-03E4FD49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8D7-A717-4E06-9D18-7C45588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C9E-5707-4561-B65C-598ECC8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0FE-9A6E-4BB1-BB22-CDDDA547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65C3-76FA-4E09-BAE9-0D9DF9DF471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8D15-60DD-43A0-BFDF-58C5002A3F8F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B19C-8BD8-4584-AB33-E4EF93A73DF2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714C-24F0-4E3A-A545-3AB5F78D2CE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A86A-1830-47A1-ABF8-5C7356F794C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1916280"/>
            <a:ext cx="7200720" cy="230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ормативно-правовое обеспечение педагогической аттестации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рмы и процедуры аттестации педагогических кадров Республики Татарстан в 2014 году</a:t>
            </a:r>
            <a:br>
              <a:rPr sz="2800"/>
            </a:br>
            <a:r>
              <a:rPr b="0" lang="ru-RU" sz="2500" spc="-1" strike="noStrike">
                <a:solidFill>
                  <a:srgbClr val="0000ff"/>
                </a:solidFill>
                <a:latin typeface="Calibri"/>
              </a:rPr>
              <a:t>     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Шаяхме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ульзада Мударис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едущий консультан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tt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отдела кадровой политики МОи 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оллаж2"/>
          <p:cNvPicPr/>
          <p:nvPr/>
        </p:nvPicPr>
        <p:blipFill>
          <a:blip r:embed="rId1"/>
          <a:stretch/>
        </p:blipFill>
        <p:spPr>
          <a:xfrm>
            <a:off x="395280" y="4240080"/>
            <a:ext cx="3097080" cy="216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Герб Республики Татарстан"/>
          <p:cNvPicPr/>
          <p:nvPr/>
        </p:nvPicPr>
        <p:blipFill>
          <a:blip r:embed="rId2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3600" spc="-1" strike="noStrike">
                <a:solidFill>
                  <a:srgbClr val="0f6fc6"/>
                </a:solidFill>
                <a:latin typeface="Times New Roman"/>
              </a:rPr>
              <a:t>Федеральный </a:t>
            </a:r>
            <a:r>
              <a:rPr b="0" lang="ru-RU" sz="3200" spc="-1" strike="noStrike">
                <a:solidFill>
                  <a:srgbClr val="0f6fc6"/>
                </a:solidFill>
                <a:latin typeface="Times New Roman"/>
              </a:rPr>
              <a:t>Закон</a:t>
            </a:r>
            <a:br>
              <a:rPr sz="3200"/>
            </a:br>
            <a:r>
              <a:rPr b="1" lang="ru-RU" sz="4000" spc="-1" strike="noStrike">
                <a:solidFill>
                  <a:srgbClr val="0f6fc6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«Об образовании в Российской Федерации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2707920"/>
            <a:ext cx="8353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тья 49. Аттестация педагогических работнико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5797-53BF-451B-A92C-BCBE35A264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CBEA-4F26-4C1E-A98E-46CA069E33F8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Объект 3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32176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Объект 3" descr=""/>
          <p:cNvPicPr/>
          <p:nvPr/>
        </p:nvPicPr>
        <p:blipFill>
          <a:blip r:embed="rId1"/>
          <a:stretch/>
        </p:blipFill>
        <p:spPr>
          <a:xfrm>
            <a:off x="469800" y="1414440"/>
            <a:ext cx="82962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Calibri"/>
              </a:rPr>
              <a:t>Основополагающие  документы для проведения аттест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начального общего образования (1-4 кл.) (утвержден приказом Минобрнауки России от 6 октября 2009 г. № 373, в ред. приказов от 26 ноября 2010 г. № 1241, от 22 сентября 2011 г. № 235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основного общего образования (5-9 кл.) (утвержден приказом Минобрнауки России от 17 декабря 2010 г. № 189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ГОС среднего (полного) общего образования (10-11 кл.) (утвержден приказом Минобрнауки России от 17 мая 2012 г. № 413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129C-447F-4675-88D6-CC4D173E320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"/>
          <p:cNvSpPr/>
          <p:nvPr/>
        </p:nvSpPr>
        <p:spPr>
          <a:xfrm>
            <a:off x="179280" y="1916280"/>
            <a:ext cx="550800" cy="7286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5"/>
          <p:cNvSpPr/>
          <p:nvPr/>
        </p:nvSpPr>
        <p:spPr>
          <a:xfrm>
            <a:off x="179280" y="3500280"/>
            <a:ext cx="550800" cy="72720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177840" y="4724280"/>
            <a:ext cx="550800" cy="728640"/>
          </a:xfrm>
          <a:prstGeom prst="rect">
            <a:avLst/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826920" y="1990800"/>
          <a:ext cx="7848720" cy="1585800"/>
        </p:xfrm>
        <a:graphic>
          <a:graphicData uri="http://schemas.openxmlformats.org/drawingml/2006/table">
            <a:tbl>
              <a:tblPr/>
              <a:tblGrid>
                <a:gridCol w="784872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900000" y="3789360"/>
          <a:ext cx="7775640" cy="10666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00000" y="4948200"/>
          <a:ext cx="7775640" cy="1228680"/>
        </p:xfrm>
        <a:graphic>
          <a:graphicData uri="http://schemas.openxmlformats.org/drawingml/2006/table">
            <a:tbl>
              <a:tblPr/>
              <a:tblGrid>
                <a:gridCol w="7775640"/>
              </a:tblGrid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23640" y="981000"/>
            <a:ext cx="4895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d233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дготовлен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пакет нормативно-правовой документаци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, включающий приказы и положения, инструктивно-методические материалы, регламентирующие процесс аттестации педагог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880"/>
            <a:ext cx="903600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Внедрение нового порядка аттестации в 2014 году в Р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6" name="Picture 4" descr="http://moivklad.ru/i/moivklad.ru/deposit_img/e860781370e6bea4c4a1e091dffe7e4e.jpg"/>
          <p:cNvPicPr/>
          <p:nvPr/>
        </p:nvPicPr>
        <p:blipFill>
          <a:blip r:embed="rId1"/>
          <a:stretch/>
        </p:blipFill>
        <p:spPr>
          <a:xfrm>
            <a:off x="5003640" y="1413000"/>
            <a:ext cx="3937320" cy="2663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7" name="Объект 2"/>
          <p:cNvSpPr/>
          <p:nvPr/>
        </p:nvSpPr>
        <p:spPr>
          <a:xfrm>
            <a:off x="324000" y="4005360"/>
            <a:ext cx="856908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d233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работаны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критериально-оценочная база, диагностический инструментарий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и </a:t>
            </a:r>
            <a:r>
              <a:rPr b="1" lang="ru-RU" sz="2400" spc="-1" strike="noStrike">
                <a:solidFill>
                  <a:srgbClr val="0d29b3"/>
                </a:solidFill>
                <a:latin typeface="Arial Narrow"/>
              </a:rPr>
              <a:t>методика оценки уровня квалификаци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аттестуемых педагогов на основе компетентностного подх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708000" y="620640"/>
            <a:ext cx="532764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 Narrow"/>
              </a:rPr>
              <a:t>Создан пакет контрольно-измерительных материалов включающий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ad233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2330"/>
                </a:solidFill>
                <a:latin typeface="Arial Narrow"/>
              </a:rPr>
              <a:t>формы экспертных заключений и приложений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к ним для </a:t>
            </a:r>
            <a:r>
              <a:rPr b="1" i="1" lang="ru-RU" sz="2400" spc="-1" strike="noStrike">
                <a:solidFill>
                  <a:srgbClr val="0d29b3"/>
                </a:solidFill>
                <a:latin typeface="Arial Narrow"/>
              </a:rPr>
              <a:t>всех категорий педагогических работ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01"/>
              </a:spcBef>
              <a:buClr>
                <a:srgbClr val="ad233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d2330"/>
                </a:solidFill>
                <a:latin typeface="Arial Narrow"/>
              </a:rPr>
              <a:t>Проект нормативных документов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для проведения квалификационных испытаний </a:t>
            </a:r>
            <a:r>
              <a:rPr b="1" i="1" lang="ru-RU" sz="2400" spc="-1" strike="noStrike">
                <a:solidFill>
                  <a:srgbClr val="0d29b3"/>
                </a:solidFill>
                <a:latin typeface="Arial Narrow"/>
              </a:rPr>
              <a:t>педагогических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работников с целью установления соответствия занимаемой должности в муниципальных образования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rcRect l="17138" t="17145" r="50621" b="11799"/>
          <a:stretch/>
        </p:blipFill>
        <p:spPr>
          <a:xfrm>
            <a:off x="395280" y="1341360"/>
            <a:ext cx="2643120" cy="3640320"/>
          </a:xfrm>
          <a:prstGeom prst="rect">
            <a:avLst/>
          </a:prstGeom>
          <a:ln w="28440">
            <a:solidFill>
              <a:srgbClr val="06686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0" name="Picture 2" descr=""/>
          <p:cNvPicPr/>
          <p:nvPr/>
        </p:nvPicPr>
        <p:blipFill>
          <a:blip r:embed="rId2"/>
          <a:srcRect l="0" t="16428" r="53125" b="3571"/>
          <a:stretch/>
        </p:blipFill>
        <p:spPr>
          <a:xfrm>
            <a:off x="1042920" y="2949480"/>
            <a:ext cx="2782800" cy="3429000"/>
          </a:xfrm>
          <a:prstGeom prst="rect">
            <a:avLst/>
          </a:prstGeom>
          <a:ln w="28440">
            <a:solidFill>
              <a:srgbClr val="06686d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036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 Narrow"/>
              </a:rPr>
              <a:t>Внедрение нового порядка аттестации в 2014 году в Р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11280" y="907920"/>
            <a:ext cx="83534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4572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457200">
              <a:lnSpc>
                <a:spcPct val="100000"/>
              </a:lnSpc>
              <a:spcAft>
                <a:spcPts val="1199"/>
              </a:spcAft>
              <a:buClr>
                <a:srgbClr val="c0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ровести многочисленные совещания, методические семинары, круглые столы, конференции, посвященные актуальным проблемам аттест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560" y="-360"/>
            <a:ext cx="903600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 Narrow"/>
              </a:rPr>
              <a:t>Для  внедрения нового порядка аттестации в 2014 году </a:t>
            </a:r>
            <a:r>
              <a:rPr b="0" lang="ru-RU" sz="3200" spc="-1" strike="noStrike">
                <a:solidFill>
                  <a:srgbClr val="04617b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1" descr="DSC00609"/>
          <p:cNvPicPr/>
          <p:nvPr/>
        </p:nvPicPr>
        <p:blipFill>
          <a:blip r:embed="rId1"/>
          <a:stretch/>
        </p:blipFill>
        <p:spPr>
          <a:xfrm>
            <a:off x="684360" y="4076640"/>
            <a:ext cx="2950920" cy="22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5" name="Picture 2" descr="DSC00592"/>
          <p:cNvPicPr/>
          <p:nvPr/>
        </p:nvPicPr>
        <p:blipFill>
          <a:blip r:embed="rId2"/>
          <a:stretch/>
        </p:blipFill>
        <p:spPr>
          <a:xfrm>
            <a:off x="3924360" y="4076640"/>
            <a:ext cx="1727280" cy="22338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6" name="Рисунок 8" descr="Z:\_ФОТО\Семинары\Семинар 18.09.2013\DSC00627.JPG"/>
          <p:cNvPicPr/>
          <p:nvPr/>
        </p:nvPicPr>
        <p:blipFill>
          <a:blip r:embed="rId3"/>
          <a:stretch/>
        </p:blipFill>
        <p:spPr>
          <a:xfrm>
            <a:off x="5940360" y="4076640"/>
            <a:ext cx="2664000" cy="22320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ормативный документ  МО и Н РТ, </a:t>
            </a:r>
            <a:br>
              <a:rPr sz="2400"/>
            </a:b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определяющий задачи по аттестации </a:t>
            </a:r>
            <a:br>
              <a:rPr sz="2400"/>
            </a:br>
            <a:r>
              <a:rPr b="0" lang="ru-RU" sz="24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на 2014/2015 учебный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79280" y="2133360"/>
            <a:ext cx="806436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Constantia"/>
              </a:rPr>
              <a:t>Приказ МО и НРТ от 23 июл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2014 г. № 4206/14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0000ff"/>
                </a:solidFill>
                <a:latin typeface="Constantia"/>
              </a:rPr>
              <a:t>«Об итогах аттестации педагогических работников образования РТ в 2013/2014 учебном году и задачах по аттестации на 2014/2015 учебный год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51040" y="357840"/>
            <a:ext cx="7655400" cy="454320"/>
          </a:xfrm>
          <a:prstGeom prst="rect">
            <a:avLst/>
          </a:prstGeom>
          <a:solidFill>
            <a:srgbClr val="000099"/>
          </a:solidFill>
          <a:ln w="25560">
            <a:solidFill>
              <a:srgbClr val="385d8a"/>
            </a:solidFill>
            <a:round/>
          </a:ln>
        </p:spPr>
        <p:txBody>
          <a:bodyPr anchor="t">
            <a:normAutofit fontScale="86000"/>
          </a:bodyPr>
          <a:p>
            <a:pPr marL="234360" indent="-234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24" descr="users2.png"/>
          <p:cNvPicPr/>
          <p:nvPr/>
        </p:nvPicPr>
        <p:blipFill>
          <a:blip r:embed="rId1"/>
          <a:stretch/>
        </p:blipFill>
        <p:spPr>
          <a:xfrm>
            <a:off x="1293840" y="26748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3" descr="user3.png"/>
          <p:cNvPicPr/>
          <p:nvPr/>
        </p:nvPicPr>
        <p:blipFill>
          <a:blip r:embed="rId2"/>
          <a:stretch/>
        </p:blipFill>
        <p:spPr>
          <a:xfrm>
            <a:off x="826920" y="2827440"/>
            <a:ext cx="433440" cy="36036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33" descr="businessmen.png"/>
          <p:cNvPicPr/>
          <p:nvPr/>
        </p:nvPicPr>
        <p:blipFill>
          <a:blip r:embed="rId3"/>
          <a:stretch/>
        </p:blipFill>
        <p:spPr>
          <a:xfrm>
            <a:off x="5267160" y="4508640"/>
            <a:ext cx="479520" cy="47772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33" descr="businessmen.png"/>
          <p:cNvPicPr/>
          <p:nvPr/>
        </p:nvPicPr>
        <p:blipFill>
          <a:blip r:embed="rId4"/>
          <a:stretch/>
        </p:blipFill>
        <p:spPr>
          <a:xfrm>
            <a:off x="7450200" y="2911320"/>
            <a:ext cx="536400" cy="536760"/>
          </a:xfrm>
          <a:prstGeom prst="rect">
            <a:avLst/>
          </a:prstGeom>
          <a:ln w="0">
            <a:noFill/>
          </a:ln>
        </p:spPr>
      </p:pic>
      <p:sp>
        <p:nvSpPr>
          <p:cNvPr id="264" name="Скругленный прямоугольник 15"/>
          <p:cNvSpPr/>
          <p:nvPr/>
        </p:nvSpPr>
        <p:spPr>
          <a:xfrm>
            <a:off x="6659640" y="3573360"/>
            <a:ext cx="1871640" cy="11746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по делам молодежи, спорту и туризму 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65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ый прямоугольник 15"/>
          <p:cNvSpPr/>
          <p:nvPr/>
        </p:nvSpPr>
        <p:spPr>
          <a:xfrm>
            <a:off x="3540240" y="5157720"/>
            <a:ext cx="2495520" cy="757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культуры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711 ч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3059280" y="836640"/>
            <a:ext cx="0" cy="28872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5"/>
          <p:cNvSpPr/>
          <p:nvPr/>
        </p:nvSpPr>
        <p:spPr>
          <a:xfrm>
            <a:off x="6227640" y="836640"/>
            <a:ext cx="0" cy="28872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Рисунок 23" descr="user3.png"/>
          <p:cNvPicPr/>
          <p:nvPr/>
        </p:nvPicPr>
        <p:blipFill>
          <a:blip r:embed="rId5"/>
          <a:stretch/>
        </p:blipFill>
        <p:spPr>
          <a:xfrm>
            <a:off x="4678200" y="4465800"/>
            <a:ext cx="392400" cy="39996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24" descr="users2.png"/>
          <p:cNvPicPr/>
          <p:nvPr/>
        </p:nvPicPr>
        <p:blipFill>
          <a:blip r:embed="rId6"/>
          <a:stretch/>
        </p:blipFill>
        <p:spPr>
          <a:xfrm>
            <a:off x="5267160" y="914400"/>
            <a:ext cx="538200" cy="4651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3" descr="user3.png"/>
          <p:cNvPicPr/>
          <p:nvPr/>
        </p:nvPicPr>
        <p:blipFill>
          <a:blip r:embed="rId7"/>
          <a:stretch/>
        </p:blipFill>
        <p:spPr>
          <a:xfrm>
            <a:off x="7986600" y="2979720"/>
            <a:ext cx="505080" cy="417600"/>
          </a:xfrm>
          <a:prstGeom prst="rect">
            <a:avLst/>
          </a:prstGeom>
          <a:ln w="0">
            <a:noFill/>
          </a:ln>
        </p:spPr>
      </p:pic>
      <p:sp>
        <p:nvSpPr>
          <p:cNvPr id="271" name="Скругленный прямоугольник 15"/>
          <p:cNvSpPr/>
          <p:nvPr/>
        </p:nvSpPr>
        <p:spPr>
          <a:xfrm>
            <a:off x="439560" y="3429000"/>
            <a:ext cx="1872000" cy="1079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99c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При Министерстве здравоохранения 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428 че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"/>
          <p:cNvSpPr/>
          <p:nvPr/>
        </p:nvSpPr>
        <p:spPr>
          <a:xfrm>
            <a:off x="2482920" y="1436760"/>
            <a:ext cx="5030640" cy="5824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ттестационная комиссия МО и Н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8210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Прямая со стрелкой 8"/>
          <p:cNvCxnSpPr/>
          <p:nvPr/>
        </p:nvCxnSpPr>
        <p:spPr>
          <a:xfrm flipV="1">
            <a:off x="2198160" y="2128320"/>
            <a:ext cx="311760" cy="31680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4" name="Прямая со стрелкой 70"/>
          <p:cNvCxnSpPr/>
          <p:nvPr/>
        </p:nvCxnSpPr>
        <p:spPr>
          <a:xfrm flipV="1">
            <a:off x="4804920" y="3500280"/>
            <a:ext cx="1080" cy="62604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pic>
        <p:nvPicPr>
          <p:cNvPr id="275" name="Рисунок 24" descr="users2.png"/>
          <p:cNvPicPr/>
          <p:nvPr/>
        </p:nvPicPr>
        <p:blipFill>
          <a:blip r:embed="rId8"/>
          <a:stretch/>
        </p:blipFill>
        <p:spPr>
          <a:xfrm>
            <a:off x="3851280" y="4437000"/>
            <a:ext cx="538200" cy="465120"/>
          </a:xfrm>
          <a:prstGeom prst="rect">
            <a:avLst/>
          </a:prstGeom>
          <a:ln w="0">
            <a:noFill/>
          </a:ln>
        </p:spPr>
      </p:pic>
      <p:cxnSp>
        <p:nvCxnSpPr>
          <p:cNvPr id="276" name="Прямая со стрелкой 113"/>
          <p:cNvCxnSpPr/>
          <p:nvPr/>
        </p:nvCxnSpPr>
        <p:spPr>
          <a:xfrm flipV="1">
            <a:off x="5070240" y="940680"/>
            <a:ext cx="1080" cy="40716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77" name="Прямая со стрелкой 116"/>
          <p:cNvCxnSpPr/>
          <p:nvPr/>
        </p:nvCxnSpPr>
        <p:spPr>
          <a:xfrm flipH="1" flipV="1">
            <a:off x="7227360" y="2161440"/>
            <a:ext cx="286560" cy="305640"/>
          </a:xfrm>
          <a:prstGeom prst="straightConnector1">
            <a:avLst/>
          </a:prstGeom>
          <a:ln w="25560">
            <a:solidFill>
              <a:srgbClr val="000099"/>
            </a:solidFill>
            <a:miter/>
            <a:headEnd len="med" type="arrow" w="med"/>
            <a:tailEnd len="med" type="arrow" w="med"/>
          </a:ln>
        </p:spPr>
      </p:cxnSp>
      <p:sp>
        <p:nvSpPr>
          <p:cNvPr id="27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4CE9-59ED-4497-B9FA-DAF3A782BCB7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79930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Задача: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98720" y="1341360"/>
            <a:ext cx="8045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родолжить работу по модернизации системы аттестации педагогических кадров Республики Татарстан во взаимосвязи с задачами  повышения качества образован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65D-FA48-4788-A37F-72BBB951776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-360" y="3141720"/>
            <a:ext cx="392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 статье </a:t>
            </a:r>
            <a:r>
              <a:rPr b="1" lang="ru-RU" sz="2200" spc="-1" strike="noStrike">
                <a:solidFill>
                  <a:srgbClr val="0d29b3"/>
                </a:solidFill>
                <a:latin typeface="Arial Narrow"/>
              </a:rPr>
              <a:t>«Строительство справедливости. Социальная политика для России»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В.В. Путин обратил внимание на необходимость выхода на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ЭФФЕКТИВНЫЙ КОНТРАКТ 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с педагогическими работникам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4" descr="http://phapluattp2.vcmedia.vn/Rpg7DiB2SyW22i2esZK04OmnfDjccc/Image/2012/03/24/putinl_eb23d.jpg"/>
          <p:cNvPicPr/>
          <p:nvPr/>
        </p:nvPicPr>
        <p:blipFill>
          <a:blip r:embed="rId1"/>
          <a:stretch/>
        </p:blipFill>
        <p:spPr>
          <a:xfrm>
            <a:off x="4140360" y="1197000"/>
            <a:ext cx="4557600" cy="31687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3" name="Picture 18" descr="http://belnovosti.ru/files/styles/thumbnail/public/news/13043_26547.jpg?itok=3v7uS_cs"/>
          <p:cNvPicPr/>
          <p:nvPr/>
        </p:nvPicPr>
        <p:blipFill>
          <a:blip r:embed="rId2"/>
          <a:stretch/>
        </p:blipFill>
        <p:spPr>
          <a:xfrm rot="19682400">
            <a:off x="6455880" y="4308120"/>
            <a:ext cx="2433600" cy="16542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Picture 20" descr="http://www.edinros-arz.ru/files/photo/news/news_43_1_1.jpg"/>
          <p:cNvPicPr/>
          <p:nvPr/>
        </p:nvPicPr>
        <p:blipFill>
          <a:blip r:embed="rId3"/>
          <a:srcRect l="0" t="0" r="30975" b="51797"/>
          <a:stretch/>
        </p:blipFill>
        <p:spPr>
          <a:xfrm>
            <a:off x="4140360" y="4581360"/>
            <a:ext cx="3024000" cy="15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880"/>
            <a:ext cx="7848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Эффективный контракт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Прямоугольник 15"/>
          <p:cNvSpPr/>
          <p:nvPr/>
        </p:nvSpPr>
        <p:spPr>
          <a:xfrm>
            <a:off x="324000" y="98100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Одним из ключевых направлений государственной политики является </a:t>
            </a:r>
            <a:r>
              <a:rPr b="1" lang="ru-RU" sz="2200" spc="-1" strike="noStrike">
                <a:solidFill>
                  <a:srgbClr val="990000"/>
                </a:solidFill>
                <a:latin typeface="Arial Narrow"/>
              </a:rPr>
              <a:t>развитие педагогического кадрового потенци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10B0-3044-4061-BC90-837421E0CE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696080" cy="1041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8560" y="1699920"/>
            <a:ext cx="73454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Для МО и Н РТ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перевод процедур педагогической аттестации в режим Интернет-технологий в информационной системе «Электронное образование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ff0000"/>
                </a:solidFill>
                <a:uFillTx/>
                <a:latin typeface="Constantia"/>
              </a:rPr>
              <a:t>Для ОУ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33cc"/>
                </a:solidFill>
                <a:latin typeface="Constantia"/>
              </a:rPr>
              <a:t>- Организовать в ОУ проведение  методических семинаров, педсоветов по совершенствованию  ведущих  профессиональных компетенций в рамках нового порядка аттестации, </a:t>
            </a:r>
            <a:r>
              <a:rPr b="1" lang="ru-RU" sz="2700" spc="-1" strike="noStrike">
                <a:solidFill>
                  <a:srgbClr val="ff0000"/>
                </a:solidFill>
                <a:latin typeface="Constantia"/>
              </a:rPr>
              <a:t>проведение аттестацию на СЗД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68360" y="18900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Times New Roman"/>
              </a:rPr>
              <a:t>Задачи на 2014 /2015 учебный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ДАЧИ  ДЛЯ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ИРО РТ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беспечить научно-методическую поддержку процесса совершенствования ведущих профессиональных компетенций педагогических работников в рамках нового Порядка аттеста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87A-C282-46CC-9EB4-ADB8389C307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920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E7C0-EBFF-4992-8FF9-67F027EF38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6490-9CDE-4608-A23D-6A88C75330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179280" y="18432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 Министерства здравоохран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социального развития   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6 августа 2010 г.  №761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Об утверждении Еди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го справоч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уководителей, специалистов и служащи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аздел «Квалификационные характерис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должностей работников образования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539640" y="260280"/>
            <a:ext cx="81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77040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е документ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150560" y="1341360"/>
            <a:ext cx="7993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Письмо Департамента общего образовани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МО и Н РФ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от 27.02.2012 г.№ 03-109 </a:t>
            </a: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«О повышении квалификации и аттестации педагогических работников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82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D800-C145-488B-877F-A6CE79B7579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3"/>
          <p:cNvSpPr/>
          <p:nvPr/>
        </p:nvSpPr>
        <p:spPr>
          <a:xfrm>
            <a:off x="179280" y="260280"/>
            <a:ext cx="864072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Два вида аттестации для педагог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1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а уровне 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2 вид: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ля установления соответств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ровня квалификации требован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Изменения в порядке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F0E2-5599-4A2F-BFB6-BA997715EAD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/>
          <p:cNvSpPr/>
          <p:nvPr/>
        </p:nvSpPr>
        <p:spPr>
          <a:xfrm>
            <a:off x="179280" y="260280"/>
            <a:ext cx="81378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ОБЯЗАТЕЛЬНАЯ 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Аттестация с целью подтвер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соответствия  занимаемой долж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проводится п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едставлению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дин раз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5 лет 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в отношении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у кого нет квалификационных катег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33cc"/>
                </a:solidFill>
                <a:latin typeface="Times New Roman"/>
              </a:rPr>
              <a:t>Процедура аттестац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ценка профессиональной деятель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(Испытания в письменной форм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Заголовок 2"/>
          <p:cNvSpPr/>
          <p:nvPr/>
        </p:nvSpPr>
        <p:spPr>
          <a:xfrm>
            <a:off x="395280" y="476280"/>
            <a:ext cx="8516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C39-A0DB-4973-940A-8E9A0EA0D63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Отказ работника от про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занимае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олжности является  наруш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трудовой дисциплины, влекущее за соб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дисциплинарные взыскания в соответств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со  статьей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92 ТК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ТВЕТСТВЕННОСТЬ РАБОТ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797-F5BC-4E2B-97AE-BEE3C777E95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3"/>
          <p:cNvSpPr/>
          <p:nvPr/>
        </p:nvSpPr>
        <p:spPr>
          <a:xfrm>
            <a:off x="108000" y="169920"/>
            <a:ext cx="813600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ОТВЕТСТВЕННОСТЬ  РАБОТОДАТ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за своевременное пр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аттестации с целью подтвер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соответствия  занимаемой дол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работ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482436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617b"/>
                </a:solidFill>
                <a:latin typeface="Constantia"/>
              </a:rPr>
              <a:t>«…ошибочно представлять программу кадрового развития как простое повышение зарплат по принципу всем сестрам по серьгам, то есть всем поровну, без учёта квалификаций и реального вклада каждого работника. В каждой организации (медицинской, образовательной, научной) должна быть сформирована собственная программа развития и кадрового обновления»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ru-RU" sz="1800" spc="-1" strike="noStrike">
                <a:solidFill>
                  <a:srgbClr val="04617b"/>
                </a:solidFill>
                <a:latin typeface="Constantia"/>
              </a:rPr>
              <a:t>В.В. Путин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http://mp3dot.ru/images/art/9/e/9/1/b_9e9191e0f88188d.jpg"/>
          <p:cNvPicPr/>
          <p:nvPr/>
        </p:nvPicPr>
        <p:blipFill>
          <a:blip r:embed="rId1"/>
          <a:srcRect l="0" t="13338" r="0" b="0"/>
          <a:stretch/>
        </p:blipFill>
        <p:spPr>
          <a:xfrm>
            <a:off x="5435640" y="1197000"/>
            <a:ext cx="28731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771B-18E7-41A8-B90D-1EB4A56D37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 подлежат аттестации работ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меющие квалификационные категор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оработавшие в должности мене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лет в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рганизаци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беременные женщины, либо находящи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в отпуске по беременности  и родам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уходу за ребенком до 3-х л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отсутствовавшие на рабоч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есте более 4-х месяцев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Заголовок 2"/>
          <p:cNvSpPr/>
          <p:nvPr/>
        </p:nvSpPr>
        <p:spPr>
          <a:xfrm>
            <a:off x="366840" y="120600"/>
            <a:ext cx="7877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ЯЗАТЕЛЬНАЯ  АТТЕС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F2E4-6507-4D8F-8E91-BB63CDB5952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108000" y="16992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х аттестация возмож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 1. не ранее,  чем через 2 года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их выхода с от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о п.2. не ране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ем через год после выхода их на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Заголовок 2"/>
          <p:cNvSpPr/>
          <p:nvPr/>
        </p:nvSpPr>
        <p:spPr>
          <a:xfrm>
            <a:off x="366840" y="120600"/>
            <a:ext cx="851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СРОК ИХ 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773-945E-4A07-8F3E-6AAB7A1A91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/>
          <p:cNvSpPr/>
          <p:nvPr/>
        </p:nvSpPr>
        <p:spPr>
          <a:xfrm>
            <a:off x="250920" y="631800"/>
            <a:ext cx="7805520" cy="562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Segoe UI"/>
              </a:rPr>
              <a:t>Перенос сроков аттестации в пределах 1 года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о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болезни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( больничный лист, справк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срок категории истек во время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тпуска до 1 г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или зарубежной командировки (стажировки 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если работник перешел в год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на новое место работы 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связи с сокрашением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если работник завершает обучение </a:t>
            </a: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ВУЗе, ССУ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Заголовок 2"/>
          <p:cNvSpPr/>
          <p:nvPr/>
        </p:nvSpPr>
        <p:spPr>
          <a:xfrm>
            <a:off x="366840" y="120600"/>
            <a:ext cx="85168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ЯЗАТЕЛЬНАЯ АТТЕС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3A24-6D6A-43B1-A827-F4E77C99B36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3"/>
          <p:cNvSpPr/>
          <p:nvPr/>
        </p:nvSpPr>
        <p:spPr>
          <a:xfrm>
            <a:off x="179280" y="353880"/>
            <a:ext cx="8713800" cy="6336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Я ОБЯЗА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1 этап: Подготовка работода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ставлений на аттестуемых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 этап: 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издание приказа в О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3 этап: определение  графика проведения аттес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4 этап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: Провед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валификационных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DC34-6B8B-4169-A628-C9D3DA08CD4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ОРГАНИЗАЦИЯ ОБЯЗАТЕЛЬНОЙ АТТЕС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5 этап: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дение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 этап: Оформлен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токола в день прове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7 этап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дач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пис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протокола (не позднее 2 рабочих дн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8этап. Работодател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накоми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с выпи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течение 3 – х рабоч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(передает протокол для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личном деле работн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0BB-626A-4588-A707-5057C02848C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ятся аттестационной комиссии  по графи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едущая форма испытаний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стир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присутствии коми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Альтернативные фор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ешение педагогических ситу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составление конспекта урока (занят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Заголовок 2"/>
          <p:cNvSpPr/>
          <p:nvPr/>
        </p:nvSpPr>
        <p:spPr>
          <a:xfrm>
            <a:off x="720720" y="836640"/>
            <a:ext cx="82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1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валификационные  испыт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письменной форме    в   РТ (оценка зн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912C-C957-4B07-9FA8-A787FD4E55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3"/>
          <p:cNvSpPr/>
          <p:nvPr/>
        </p:nvSpPr>
        <p:spPr>
          <a:xfrm>
            <a:off x="208080" y="136440"/>
            <a:ext cx="8785080" cy="6075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Методика  оценки квалиф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egoe UI Semibold"/>
              </a:rPr>
              <a:t>педагогических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валификация- совокупность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6 основных компетент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бласти личностных кач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в   постановке   целей   и  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мотивировани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разработке программы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и принятии педагоги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    в     обеспечении     информ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основы педагог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Компетентность в организации педагогической деятельности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Заголовок 2"/>
          <p:cNvSpPr/>
          <p:nvPr/>
        </p:nvSpPr>
        <p:spPr>
          <a:xfrm>
            <a:off x="476280" y="1047600"/>
            <a:ext cx="8516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6666-512D-4DFF-887B-9F638AD709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179280" y="333360"/>
            <a:ext cx="8713800" cy="602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максимальное время для напис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онспекта урока (занятия)  -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а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  имеет  при себ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абочу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грамм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, гелевую ручку, 10 л. бума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учебник (хрестоматии, сборники задач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дагогу предлага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нстру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(структура конспекта, критерии, требовани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4041-6B39-4E44-970E-C90EEC0490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ация о сроках и месте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спытаний сообщается работник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 меся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одатель издает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каз о проведении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испы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мирует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аттестационную комиссию о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спытания, предмете, классе, рабочей програм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назначенный день работни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ставля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нспект урока (занятия) на бумагоносите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присутствии экспертов –членов экспертной комисс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му урок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агает комиссия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з числа 10 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изучению нового материала, указ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рабочей програм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125E-55AC-41B6-AC69-988A96A05C8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/>
          <p:cNvSpPr/>
          <p:nvPr/>
        </p:nvSpPr>
        <p:spPr>
          <a:xfrm>
            <a:off x="179280" y="189000"/>
            <a:ext cx="87138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РЯДОК ПРОВЕДЕНИЯ  ИСПЫТА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 началом процедур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ис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штампуются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завершении испытаний   конспе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ередаются н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верку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членам коми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результатам провер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-  оформляется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( в 2-х экз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Мониторинг приоритетных направлений реализации региональных отраслевых «дорожных» карт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ff"/>
                </a:solidFill>
                <a:latin typeface="Constantia"/>
              </a:rPr>
              <a:t>Изменения в отраслях социальной сферы, направленные на повышение  эффективности образования и наук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Учет результатов аттестации педагогических работников при переводе их на  эффективный контрак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Методические материалы, разработанные в УО в рамках внедрения эффективного контракт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CEDC-E8FC-421E-A28F-8A328A37D7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7"/>
          <p:cNvSpPr/>
          <p:nvPr/>
        </p:nvSpPr>
        <p:spPr>
          <a:xfrm>
            <a:off x="900000" y="189000"/>
            <a:ext cx="7272360" cy="6056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07 апреля 2014 г. № 2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«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 порядке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едагогических 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рганизаций, осуществляющ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образовательную  деятельность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324000" y="49536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7030a0"/>
                </a:solidFill>
                <a:uFillTx/>
                <a:latin typeface="Times New Roman"/>
              </a:rPr>
              <a:t>Федеральные документы 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84A3-7BC6-4C84-B020-DD5711C0AF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324000" y="260280"/>
            <a:ext cx="8461080" cy="6004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Заголовок 2"/>
          <p:cNvSpPr/>
          <p:nvPr/>
        </p:nvSpPr>
        <p:spPr>
          <a:xfrm>
            <a:off x="395280" y="76500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Аттестация для присвоения квалификационных категорий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(первой или высш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95280" y="1989000"/>
            <a:ext cx="842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оводитс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заявлению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едагогических работников  до истечения срока  имеющейся квалификационной категории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Досрочная аттестация  разрешается через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 год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сле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дыдущей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Процедура аттестации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</a:rPr>
              <a:t>: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экспертная оц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76A-315C-4059-93EF-19C0E45FC1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179280" y="189000"/>
            <a:ext cx="8605800" cy="6294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 для присвоения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первой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табильные положительные результа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своения обуч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разовате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-выявления развития у обучающихся способ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 научной (интеллектуальной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ворческой, физкультурно-спортив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личного вклада в повышение качества образов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овершенствования методов обучения и воспит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ранслирования в педагогиче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коллективах 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ей профессиональной деятель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активного участия в раб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методических объединений педагогических работ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Заголовок 2"/>
          <p:cNvSpPr/>
          <p:nvPr/>
        </p:nvSpPr>
        <p:spPr>
          <a:xfrm>
            <a:off x="395280" y="404640"/>
            <a:ext cx="8516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00A6-5944-4DE7-BA96-9851C673942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24000" y="189000"/>
            <a:ext cx="8461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ребования для присвоения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ысше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наличие  первой катего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участие воспитаннико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о всероссийских олимпиад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онкурсах, соревнованиях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транслирования в педагогических коллектив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опыта практически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99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ff"/>
                </a:solidFill>
                <a:latin typeface="Times New Roman"/>
              </a:rPr>
              <a:t>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ктивное распространение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нновационного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пы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 повышению  качества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Новое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требов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46C1-7B11-439B-9E16-4C6E0B0635D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"/>
          <p:cNvSpPr/>
          <p:nvPr/>
        </p:nvSpPr>
        <p:spPr>
          <a:xfrm>
            <a:off x="293760" y="174600"/>
            <a:ext cx="8461440" cy="6546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UI Semibold"/>
              </a:rPr>
              <a:t>Работник </a:t>
            </a:r>
            <a:r>
              <a:rPr b="1" lang="ru-RU" sz="2400" spc="-1" strike="noStrike">
                <a:solidFill>
                  <a:srgbClr val="0000ff"/>
                </a:solidFill>
                <a:latin typeface="Segoe UI Semibold"/>
              </a:rPr>
              <a:t>подает в комиссию ли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Заявление по установлен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Справка о профессиональном тестиро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(работник проходи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ранее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Копия аттестационного листа или друг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окумента по итогам предыдуще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ля высшей 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Готовя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ы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на аттестуемого работника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3c6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Экспертное заключение, эксперт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Заголовок 2"/>
          <p:cNvSpPr/>
          <p:nvPr/>
        </p:nvSpPr>
        <p:spPr>
          <a:xfrm>
            <a:off x="395280" y="404640"/>
            <a:ext cx="85168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еречень документов при аттестации на категорию (первую  или высшую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0294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 u="sng">
                <a:solidFill>
                  <a:srgbClr val="9900ff"/>
                </a:solidFill>
                <a:uFillTx/>
                <a:latin typeface="Calibri"/>
              </a:rPr>
              <a:t>Тестирование проводится:</a:t>
            </a:r>
            <a:br>
              <a:rPr sz="3100"/>
            </a:br>
            <a:br>
              <a:rPr sz="28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в формате 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ЕГЭ, ЕРЭ </a:t>
            </a: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 </a:t>
            </a:r>
            <a:r>
              <a:rPr b="0" lang="ru-RU" sz="2600" spc="-1" strike="noStrike" u="sng">
                <a:solidFill>
                  <a:srgbClr val="ff0000"/>
                </a:solidFill>
                <a:uFillTx/>
                <a:latin typeface="Calibri"/>
              </a:rPr>
              <a:t>в РЦМКО (8843)223-09-17)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компьютерное тестирование</a:t>
            </a:r>
            <a:br>
              <a:rPr sz="2600"/>
            </a:br>
            <a:r>
              <a:rPr b="0" lang="ru-RU" sz="2600" spc="-1" strike="noStrike">
                <a:solidFill>
                  <a:srgbClr val="99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педагогов и директоров – в системе «Электронное образование» (руководство  по тестированию на сайте МО и Н РТ)</a:t>
            </a:r>
            <a:br>
              <a:rPr sz="2600"/>
            </a:br>
            <a:br>
              <a:rPr sz="2600"/>
            </a:br>
            <a:br>
              <a:rPr sz="28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676908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ru-RU" sz="4500" spc="-1" strike="noStrike">
                <a:solidFill>
                  <a:srgbClr val="ff0000"/>
                </a:solidFill>
                <a:latin typeface="Calibri"/>
              </a:rPr>
              <a:t>Зачетный миниму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76360" y="1989000"/>
            <a:ext cx="66960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перв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7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На высшую категорию –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80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бал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 нехватке -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балла </a:t>
            </a:r>
            <a:r>
              <a:rPr b="1" i="1" lang="ru-RU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авляются автоматичес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64FB-F354-4F3D-857C-7CCFA67FDB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BB1F-A686-4179-98D5-B088C7BF298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395280" y="333360"/>
            <a:ext cx="828036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нимание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ы тес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читываются за последние 5 л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8C86-81AC-49A7-8186-87369C5A99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ТТЕС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 2014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539640" y="98100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электронного документооборота «Аттестация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Электронном образов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56760" y="1341360"/>
            <a:ext cx="8358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Мониторинг реализации Комплекса мер по модернизации  системы образования РТ в рамках национальной инициативы «Наша новая школа</a:t>
            </a:r>
            <a:r>
              <a:rPr b="1" i="1" lang="ru-RU" sz="2800" spc="-1" strike="noStrike">
                <a:solidFill>
                  <a:srgbClr val="0000ff"/>
                </a:solidFill>
                <a:latin typeface="Constantia"/>
              </a:rPr>
              <a:t>» </a:t>
            </a: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по направлению</a:t>
            </a:r>
            <a:r>
              <a:rPr b="1" i="1" lang="ru-RU" sz="2800" spc="-1" strike="noStrike">
                <a:solidFill>
                  <a:srgbClr val="0000ff"/>
                </a:solidFill>
                <a:latin typeface="Constanti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ализация нового порядка аттест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Показатель 3:</a:t>
            </a: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   Доля педагогов, аттестованных на квалификационные категории (первую и высшую) и соответствие занимаемой должности в общей численности педагогов 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- 8</a:t>
            </a: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0%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WordArt 7"/>
          <p:cNvSpPr txBox="1"/>
          <p:nvPr/>
        </p:nvSpPr>
        <p:spPr>
          <a:xfrm>
            <a:off x="611280" y="476280"/>
            <a:ext cx="7993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оглашение между МОиН РТ и МО и Н РФ на 2014 год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частники взаимоотношений в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ИС «АТТЕСТАЦИЯ» (по уровням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63440" y="3957480"/>
            <a:ext cx="525780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РАЙ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СПЕЦИАЛИСТ, МЕТОДИСТ ОТДЕЛА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136440" y="286056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ОТВЕТСТВЕННЫЙ ЗА АТТЕСТАЦИЮ В 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  <a:ea typeface="Arial"/>
              </a:rPr>
              <a:t>(ЗАМ. ДИРЕКТ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 flipH="1">
            <a:off x="6734160" y="3068640"/>
            <a:ext cx="2160720" cy="862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179280" y="5589720"/>
            <a:ext cx="5256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АТТЕСТАЦИОННАЯ КОМИС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(МОиН 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54080" y="1533600"/>
            <a:ext cx="5257800" cy="17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ходит в свой кабинет в Электронном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через логин, парол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 октября каждого текущего года начало аттестационных процеду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120600" y="4862520"/>
            <a:ext cx="525636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  <a:ea typeface="Arial"/>
              </a:rPr>
              <a:t>Отслеживает (при необходимости) на какой стадии находится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После направления дело экспертам, доступ к личному делу должен быть закры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108000" y="3308400"/>
            <a:ext cx="52560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сентябре месяце каждого текущего года</a:t>
            </a: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 заполняет заявление (электронная форма – пересылается в личное дело аттестуемого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4617b"/>
                </a:solidFill>
                <a:latin typeface="Arial"/>
              </a:rPr>
              <a:t>Заявка на тес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 flipH="1">
            <a:off x="6732000" y="3235320"/>
            <a:ext cx="2160360" cy="1511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ЕДАГ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формляет лист самооценки (автоматически)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2015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Заполняет электронную форму аттестационного 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3"/>
          <p:cNvSpPr/>
          <p:nvPr/>
        </p:nvSpPr>
        <p:spPr>
          <a:xfrm>
            <a:off x="141120" y="3078000"/>
            <a:ext cx="5330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кладывает электронную форму (скан) подтверждающи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 flipH="1">
            <a:off x="6732000" y="3068640"/>
            <a:ext cx="2160360" cy="13262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Педаг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олняет электронную форму карты результа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179280" y="1341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 аттестационное дело (заявле-ние аттестуемого учи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365040" y="439740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Аттестационного листа не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8"/>
          <p:cNvSpPr/>
          <p:nvPr/>
        </p:nvSpPr>
        <p:spPr>
          <a:xfrm flipH="1">
            <a:off x="5398920" y="2627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 flipH="1">
            <a:off x="6732000" y="3068640"/>
            <a:ext cx="2160360" cy="16311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Заместитель директора О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3"/>
          <p:cNvSpPr/>
          <p:nvPr/>
        </p:nvSpPr>
        <p:spPr>
          <a:xfrm>
            <a:off x="252360" y="5157720"/>
            <a:ext cx="5254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равляет аттестационное дело, в «Отдел образова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5398920" y="455940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икладывает электронную фор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3"/>
          <p:cNvSpPr/>
          <p:nvPr/>
        </p:nvSpPr>
        <p:spPr>
          <a:xfrm>
            <a:off x="179280" y="2421000"/>
            <a:ext cx="5256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,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41120" y="328464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тверждает</a:t>
            </a: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электронную форму карты результативност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то не подлежит эксперти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в ИС «АТТЕСТАЦИЯ»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54080" y="1533600"/>
            <a:ext cx="5257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ет график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пертов (направляет экспертов к учителю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3"/>
          <p:cNvSpPr/>
          <p:nvPr/>
        </p:nvSpPr>
        <p:spPr>
          <a:xfrm>
            <a:off x="120600" y="4862520"/>
            <a:ext cx="5256360" cy="183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еряет документы. Определяет экспертов. Открывает доступ к документам аттестумых экспер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яет дело в аттестационную комис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5"/>
          <p:cNvSpPr/>
          <p:nvPr/>
        </p:nvSpPr>
        <p:spPr>
          <a:xfrm>
            <a:off x="558000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 flipH="1">
            <a:off x="5364000" y="36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108000" y="3308400"/>
            <a:ext cx="5256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яет документы на соответствие требованиям к катег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 flipH="1">
            <a:off x="6804000" y="3357720"/>
            <a:ext cx="2160720" cy="1008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Специалист отдела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8"/>
          <p:cNvSpPr/>
          <p:nvPr/>
        </p:nvSpPr>
        <p:spPr>
          <a:xfrm>
            <a:off x="5376960" y="5229360"/>
            <a:ext cx="20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179280" y="1484280"/>
            <a:ext cx="5257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держивает АС в актуальном состоя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179280" y="458136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Обеспечивает организацию  работы экспертных комиссий 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8"/>
          <p:cNvSpPr/>
          <p:nvPr/>
        </p:nvSpPr>
        <p:spPr>
          <a:xfrm flipH="1">
            <a:off x="536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8"/>
          <p:cNvSpPr/>
          <p:nvPr/>
        </p:nvSpPr>
        <p:spPr>
          <a:xfrm flipH="1">
            <a:off x="6734160" y="3068640"/>
            <a:ext cx="2160720" cy="1313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Электронное образование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79280" y="558972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ует в системе  аттестационные документы к заседанию АК МОиН РТ, проводит мониторинг по итогам проведения аттес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543564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179280" y="2565360"/>
            <a:ext cx="5256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вает научно-методическое сопровождение аттес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536400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3"/>
          <p:cNvSpPr/>
          <p:nvPr/>
        </p:nvSpPr>
        <p:spPr>
          <a:xfrm>
            <a:off x="179280" y="364500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Проверяет документы на соответствие требованиям Н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67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мочия участников процедуры аттестации 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в ИАС «АТТЕСТАЦИЯ»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AutoShape 8"/>
          <p:cNvSpPr/>
          <p:nvPr/>
        </p:nvSpPr>
        <p:spPr>
          <a:xfrm rot="10800000">
            <a:off x="5724000" y="2852280"/>
            <a:ext cx="863640" cy="2089080"/>
          </a:xfrm>
          <a:prstGeom prst="rightArrow">
            <a:avLst>
              <a:gd name="adj1" fmla="val 58324"/>
              <a:gd name="adj2" fmla="val 24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5520" y="155736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одит заседание 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3"/>
          <p:cNvSpPr/>
          <p:nvPr/>
        </p:nvSpPr>
        <p:spPr>
          <a:xfrm>
            <a:off x="333360" y="4076640"/>
            <a:ext cx="52578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щает документы по итогам  аттестации на своем «сайт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558000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6"/>
          <p:cNvSpPr/>
          <p:nvPr/>
        </p:nvSpPr>
        <p:spPr>
          <a:xfrm flipH="1">
            <a:off x="5364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7"/>
          <p:cNvSpPr/>
          <p:nvPr/>
        </p:nvSpPr>
        <p:spPr>
          <a:xfrm flipH="1">
            <a:off x="5435280" y="1773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8"/>
          <p:cNvSpPr/>
          <p:nvPr/>
        </p:nvSpPr>
        <p:spPr>
          <a:xfrm flipH="1">
            <a:off x="5364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136440" y="2860560"/>
            <a:ext cx="5256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Arial"/>
              </a:rPr>
              <a:t>ПРИНИМАЕТ РЕШЕНИЕ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ОКАЛЬНЫЙ 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"/>
          <p:cNvSpPr/>
          <p:nvPr/>
        </p:nvSpPr>
        <p:spPr>
          <a:xfrm flipH="1">
            <a:off x="6736680" y="3068640"/>
            <a:ext cx="2160360" cy="14724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"/>
              </a:rPr>
              <a:t>Аттестацион-ная комиссия МОиН 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179280" y="5300640"/>
            <a:ext cx="5256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Arial"/>
              </a:rPr>
              <a:t>Дает указание по завершению аттестационного дела и передачи дела в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8"/>
          <p:cNvSpPr/>
          <p:nvPr/>
        </p:nvSpPr>
        <p:spPr>
          <a:xfrm>
            <a:off x="543564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Этапы прохождения документов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заявления. Заявка на тестировани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ормление аттестационного дела (статус «формирование аттест.де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атт.дела в отдел образования и его проверка(статус «аттестационное дело сформировано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дела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статус «аттестац.дело ожидает подтверждения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смотрение дела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инятие решения (статус «аттест.дело рассмотрено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распорядительного акта (статус « соответствует /не соответствует «заявленной» категории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Мониторинг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 рамках мониторинга роста квалификации работников образования Республики Татарстан необходимы цифровые данные о наличии квалификационных категорий педагогических работников образовательных организаций, находящихся на территории соответствующего муниципального образования, включая организации профессионального образов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Указанная информация должна автоматически представляться  в отдел кадровой политики Министерства образования и науки Республики Татарстан до 1 мая ежегод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28D7-B897-4F0D-B80D-7DB5A027D0F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"/>
          <p:cNvSpPr/>
          <p:nvPr/>
        </p:nvSpPr>
        <p:spPr>
          <a:xfrm>
            <a:off x="250920" y="333360"/>
            <a:ext cx="856908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ОРГАНИЗАЦИЯ ЗАЯВИТЕЛЬНОЙ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. Предварительный этап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рохождение работником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рофессиональ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естирования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(компьютерного или в формате ЕГЭ) С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ача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заявления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 на аттестацию (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кто прошел в 2010 году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- подготовка для экспертов листа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2. Подача документов через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3. Издание приказа МО и Н РТ о про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4. Проведе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кспертизы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по месту рабо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ттестуемого педагог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Заполнение экспертных заключений в 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6. Проведение заседания АК МОиН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5. Издание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каза МОиН РТ об итогах аттеста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оформление и выдача аттестационных листов отмен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Средние показатели профессионального роста</a:t>
            </a:r>
            <a:br>
              <a:rPr sz="2400"/>
            </a:br>
            <a:r>
              <a:rPr b="0" lang="ru-RU" sz="2400" spc="-1" strike="noStrike">
                <a:solidFill>
                  <a:srgbClr val="0f6fc6"/>
                </a:solidFill>
                <a:latin typeface="Times New Roman"/>
              </a:rPr>
              <a:t>работников образования Республики Татарстан в 2013-2014 уч .г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ADB-A161-4F83-B390-93D066F9619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1D7C-8D5F-40A6-98EA-5DCC9E7E69B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Объект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5694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A2F3-8CB6-43FA-A4EB-2B746A4447B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611280" y="382680"/>
            <a:ext cx="806616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лгоритм проведения эксперти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определяют состав  экспертных груп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для утверждения приказом МО и Н Р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Независимые эксперты проводят эксперти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профессиональных результатов, анализирую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уроки, сопоставляют  свои выводы с листом самооцен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аттестуемого  педагога, готовят экспертно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заключени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3. Экспертные </a:t>
            </a: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комиссии контролируют оформл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экспертного заключения  в ИС передают коп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в МОиН РТ для опла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ff"/>
                </a:solidFill>
                <a:latin typeface="Times New Roman"/>
              </a:rPr>
              <a:t>На 2015 год включить в бюджет оплату экспер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F6DB-0157-4B8B-8160-7080F481B2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888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imes New Roman"/>
              </a:rPr>
              <a:t>Экспертиза из 2 блоков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84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мониторинг результатов (п.3.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33cc"/>
                </a:solidFill>
                <a:latin typeface="Times New Roman"/>
              </a:rPr>
              <a:t>ЕГЭ, ЕРЭ     тестирование  олимпиады      внутренний контро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аттестационная   эксперти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самооценка       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33cc"/>
                </a:solidFill>
                <a:latin typeface="Times New Roman"/>
              </a:rPr>
              <a:t>экспертная оцен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455" name="Прямая со стрелкой 4"/>
          <p:cNvCxnSpPr/>
          <p:nvPr/>
        </p:nvCxnSpPr>
        <p:spPr>
          <a:xfrm>
            <a:off x="2050560" y="2205000"/>
            <a:ext cx="1080" cy="5040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56" name="Прямая соединительная линия 13"/>
          <p:cNvSpPr/>
          <p:nvPr/>
        </p:nvSpPr>
        <p:spPr>
          <a:xfrm flipV="1">
            <a:off x="1979640" y="2203560"/>
            <a:ext cx="576108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Прямая со стрелкой 19"/>
          <p:cNvCxnSpPr/>
          <p:nvPr/>
        </p:nvCxnSpPr>
        <p:spPr>
          <a:xfrm>
            <a:off x="3634920" y="2217240"/>
            <a:ext cx="1080" cy="505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8" name="Прямая со стрелкой 20"/>
          <p:cNvCxnSpPr/>
          <p:nvPr/>
        </p:nvCxnSpPr>
        <p:spPr>
          <a:xfrm>
            <a:off x="5363640" y="2217240"/>
            <a:ext cx="1080" cy="5058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9" name="Прямая со стрелкой 21"/>
          <p:cNvCxnSpPr/>
          <p:nvPr/>
        </p:nvCxnSpPr>
        <p:spPr>
          <a:xfrm>
            <a:off x="7596000" y="2203200"/>
            <a:ext cx="1080" cy="53388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Прямая соединительная линия 24"/>
          <p:cNvSpPr/>
          <p:nvPr/>
        </p:nvSpPr>
        <p:spPr>
          <a:xfrm>
            <a:off x="1415880" y="4508640"/>
            <a:ext cx="5427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Прямая со стрелкой 25"/>
          <p:cNvCxnSpPr/>
          <p:nvPr/>
        </p:nvCxnSpPr>
        <p:spPr>
          <a:xfrm>
            <a:off x="1401480" y="4508280"/>
            <a:ext cx="1080" cy="719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62" name="Прямая со стрелкой 27"/>
          <p:cNvCxnSpPr/>
          <p:nvPr/>
        </p:nvCxnSpPr>
        <p:spPr>
          <a:xfrm>
            <a:off x="6843240" y="4508280"/>
            <a:ext cx="1080" cy="7196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</p:cxn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Эксперты( не более 2 чел.)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9200"/>
            <a:ext cx="77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onstantia"/>
              </a:rPr>
              <a:t>Д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ля впервые аттестуемых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9900ff"/>
                </a:solidFill>
                <a:latin typeface="Constantia"/>
              </a:rPr>
              <a:t>1 независимый эксперт и зам.директора ОУ по месту работы аттестуемог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</a:rPr>
              <a:t>Для подтверждающих категорию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- администрация ОУ (1 чел.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ттестуемый имеет право потребовать независимых экспе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493-BF68-43D2-876A-7979105ABA0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/>
          <p:cNvSpPr/>
          <p:nvPr/>
        </p:nvSpPr>
        <p:spPr>
          <a:xfrm>
            <a:off x="250920" y="333360"/>
            <a:ext cx="8497800" cy="6191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Независимые эксперты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 направля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к педагогическим работникам (при повторной аттест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ри наличии у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достижений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на профессиональных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конкурсах, предметных олимпиадах и др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государственных, отраслевых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награ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К руководящим работникам, аттестуем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по педагогическим должностям </a:t>
            </a:r>
            <a:r>
              <a:rPr b="1" lang="ru-RU" sz="3000" spc="-1" strike="noStrike">
                <a:solidFill>
                  <a:srgbClr val="ff00ff"/>
                </a:solidFill>
                <a:latin typeface="Times New Roman"/>
              </a:rPr>
              <a:t>,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независим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00ff"/>
                </a:solidFill>
                <a:latin typeface="Times New Roman"/>
              </a:rPr>
              <a:t>эксперты направляются обязательно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448920"/>
            <a:ext cx="800100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Важно!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1699920"/>
            <a:ext cx="7705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Для </a:t>
            </a:r>
            <a:r>
              <a:rPr b="1" lang="ru-RU" sz="2600" spc="-1" strike="noStrike">
                <a:solidFill>
                  <a:srgbClr val="ff3300"/>
                </a:solidFill>
                <a:latin typeface="Constantia"/>
              </a:rPr>
              <a:t>высшей </a:t>
            </a:r>
            <a:r>
              <a:rPr b="1" lang="ru-RU" sz="2600" spc="-1" strike="noStrike">
                <a:solidFill>
                  <a:srgbClr val="003399"/>
                </a:solidFill>
                <a:latin typeface="Constantia"/>
              </a:rPr>
              <a:t>категории  дополнительно проводится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экспертиза инновационных разработок, если отсутствует инновационная деятельность аттестуемы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в рамках методических конкурсов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научно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–практических</a:t>
            </a: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33cc"/>
                </a:solidFill>
                <a:latin typeface="Constantia"/>
              </a:rPr>
              <a:t>конференц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республиканск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федерального,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международного уровн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81000" algn="just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9640" y="274320"/>
            <a:ext cx="67676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еречень документов необходимы для ИС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628640"/>
            <a:ext cx="763272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Constantia"/>
              </a:rPr>
              <a:t>Заявлени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Аттестационный лист старый для высшей категори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Карта результативности профессиональной деятельности для всех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Заключение экспертиз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Удостоверение о курсах , заверен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Рецензия или отзыв на  авторские разработки ( или  документ об участии в методическом конкурсе республиканского уровня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nstantia"/>
              </a:rPr>
              <a:t>Подтверждающий документ об участии детей в олимпиадах, конкурсах, соревнованиях   всероссийского уровня или в региональном этапе данных мероприяти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C8B9-DF77-4604-8522-235F3EC2F95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3"/>
          <p:cNvSpPr/>
          <p:nvPr/>
        </p:nvSpPr>
        <p:spPr>
          <a:xfrm>
            <a:off x="250920" y="260280"/>
            <a:ext cx="7921440" cy="630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71680" indent="-571680">
              <a:lnSpc>
                <a:spcPct val="100000"/>
              </a:lnSpc>
              <a:buClr>
                <a:srgbClr val="0033cc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иказ Министерства образов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 науки Республики Татарст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«О проведении аттестаци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бразовательных учрежд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Республики Татарстан  в 2014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468360" y="260280"/>
            <a:ext cx="7947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  <a:ea typeface="Andalus"/>
              </a:rPr>
              <a:t>Региональные 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F4D-488B-4328-AE34-8D637BF89F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№ 4231/14 от 25.07.2014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. «Об утверждении Административного регламента по проведению аттестации педагогических  работников  Республики Татарстан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каз МО и Н РТ  «Об утвержден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 об экспертной комиссии по муниципальному образованию Республики Татарстан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78B-D872-4A59-B93F-A7414AFF284E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00"/>
                </a:solidFill>
                <a:latin typeface="Calibri"/>
              </a:rPr>
              <a:t>НОРМАТИВНЫЕ АКТЫ МО  и  Н  РТ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каз МО и Н РТ №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3669/14 от 14 июля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014 г. «Об утверждении Положения о формах и процедурах аттестации педагогических работников РТ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3F08-0B35-4637-8FD2-86DA4816F7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250920" y="476280"/>
            <a:ext cx="8642160" cy="5977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ГИОНАЛЬНЫЕ  НОРМАТИВНЫЕ  А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Отраслевое Соглашение между МО и Н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 Татарским рескомом профсоюза рабо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родного образования и науки на 2014-201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ложение №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« Права и льготы работников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Республики Татарст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ри подготовке и проведении аттестации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йтинг муниципальных образований по наличию высшей категории в 2014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4C5F-F923-4BD5-B9CD-5CBDD1A21D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283C-6ECA-4692-BDB5-39D5A4BE0C8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Объект 5" descr=""/>
          <p:cNvPicPr/>
          <p:nvPr/>
        </p:nvPicPr>
        <p:blipFill>
          <a:blip r:embed="rId1"/>
          <a:stretch/>
        </p:blipFill>
        <p:spPr>
          <a:xfrm>
            <a:off x="560520" y="1217520"/>
            <a:ext cx="84549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Times New Roman"/>
              </a:rPr>
              <a:t>Отраслевое соглашение  с  профсоюзом работников образования</a:t>
            </a:r>
            <a:endParaRPr b="0" lang="en-US" sz="2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1412640"/>
            <a:ext cx="806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основания для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ереноса сроков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и на подтверждение СЗ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менени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прощенных форм экспертизы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и наличии заслуг, отраслевых и государственных наград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хранение  квалификационных категорий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на разных должностях (учебных предметах 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E693-3272-4F06-8D50-BE7A4BF8DD6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0B59-3253-442E-B87D-AB4B8F2969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/>
          <p:cNvSpPr/>
          <p:nvPr/>
        </p:nvSpPr>
        <p:spPr>
          <a:xfrm>
            <a:off x="250920" y="260280"/>
            <a:ext cx="8570880" cy="62229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иказ МО и НР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т 20 января 2011 г. № 63/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«Об утверждении Примерного полож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об аттестации руководителей  (директор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заведующих, начальников) образователь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4FA9-83BD-4160-B7A4-E27F959276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"/>
          <p:cNvSpPr/>
          <p:nvPr/>
        </p:nvSpPr>
        <p:spPr>
          <a:xfrm>
            <a:off x="179280" y="333360"/>
            <a:ext cx="8713800" cy="626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ИОНАЛЬНЫЕ НОРМАТИВНЫЕ  АК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риказы Министерства образования и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Республики Татарст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т 19 января 2011 г. № 47/11 «Об утвер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ложения об аттестационной 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от 12 января 2012 г. </a:t>
            </a:r>
            <a:r>
              <a:rPr b="1" lang="ru-RU" sz="2400" spc="-1" strike="noStrike">
                <a:solidFill>
                  <a:srgbClr val="ff00ff"/>
                </a:solidFill>
                <a:latin typeface="Times New Roman"/>
              </a:rPr>
              <a:t>№ 107/12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«Об аттестацио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комиссии МО и Н Р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DB71-4013-4E69-810F-4DA58A219AC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/>
          <p:cNvSpPr/>
          <p:nvPr/>
        </p:nvSpPr>
        <p:spPr>
          <a:xfrm>
            <a:off x="0" y="142920"/>
            <a:ext cx="9036000" cy="633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й  по подготовке и проведени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ттестации на соответствие занимаемой должности в О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бучить зам. директоров, председ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аттестационных комиссии У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 ИРО Р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2. Контролировать проведение испытани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Контролировать разработку локальных 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СЗД (направлю по электрон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7733-E758-46F0-A316-62F1668CAC6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3"/>
          <p:cNvSpPr/>
          <p:nvPr/>
        </p:nvSpPr>
        <p:spPr>
          <a:xfrm>
            <a:off x="250920" y="333360"/>
            <a:ext cx="8642160" cy="6145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 экспертной комиссии  по подгот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ведению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а  квалификационные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готовить список педагогов, у котор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рок действия категорий заканчивается 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2015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ff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нформировать их о сроках и условиях по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явлений  на аттестацию,  в т. ч.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дтверждения  имеющейся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ранее направить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их на профессиональ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тестир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В 2015 году тес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будет после заявления для все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C5DA-19F4-4653-B520-B10AF06012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08720" cy="75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Times New Roman"/>
              </a:rPr>
              <a:t>ГРАФИК  АТТЕСТАЦИИ  НА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ЗД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28440" y="1773360"/>
            <a:ext cx="76057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ентябрь</a:t>
            </a: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Arial"/>
              </a:rPr>
              <a:t> 2014 года</a:t>
            </a: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формление, представлений  и списков (по форме протоко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экспертной комиссий  в программ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XEL)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, приказ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с 1 октября по 10 октября 2014 г.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дение квалификационных испытаний в присутствии представителей экспертной комиссии АК  МО И Н  РТ, проведение засед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F0A8-637E-4946-A034-C803D5E151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6560" y="620640"/>
            <a:ext cx="8137800" cy="820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                                              </a:t>
            </a:r>
            <a:br>
              <a:rPr sz="2500"/>
            </a:br>
            <a:r>
              <a:rPr b="1" lang="ru-RU" sz="2500" spc="-1" strike="noStrike">
                <a:solidFill>
                  <a:srgbClr val="ff3300"/>
                </a:solidFill>
                <a:latin typeface="Times New Roman"/>
              </a:rPr>
              <a:t>ЗАЯВИТЕЛЬНАЯ  АТТЕСТАЦИЯ НА  ПЕРВУЮ  И ВЫСШУЮ  КАТЕГОРИЮ в 2014 г.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Октябрь 2014 </a:t>
            </a:r>
            <a:r>
              <a:rPr b="1" lang="ru-RU" sz="2900" spc="-1" strike="noStrike">
                <a:solidFill>
                  <a:srgbClr val="000000"/>
                </a:solidFill>
                <a:latin typeface="Constantia"/>
              </a:rPr>
              <a:t>г.</a:t>
            </a:r>
            <a:r>
              <a:rPr b="0" lang="ru-RU" sz="2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централизованный прием в ИС заявлений на аттестацию работников, у которых срок действия квалификационных категорий заканчивается в 2015 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Ноябрь </a:t>
            </a:r>
            <a:r>
              <a:rPr b="1" lang="ru-RU" sz="2900" spc="-1" strike="noStrike">
                <a:solidFill>
                  <a:srgbClr val="0000ff"/>
                </a:solidFill>
                <a:latin typeface="Constantia"/>
              </a:rPr>
              <a:t>2014 г</a:t>
            </a:r>
            <a:r>
              <a:rPr b="0" lang="ru-RU" sz="29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работа экспертных групп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onstantia"/>
              </a:rPr>
              <a:t>Декабрь 2014</a:t>
            </a:r>
            <a:r>
              <a:rPr b="1" lang="ru-RU" sz="2600" spc="-1" strike="noStrike">
                <a:solidFill>
                  <a:srgbClr val="0000ff"/>
                </a:solidFill>
                <a:latin typeface="Constantia"/>
              </a:rPr>
              <a:t>г</a:t>
            </a: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направление договоров на экспертов в МО и Н Р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-360" y="980640"/>
            <a:ext cx="5256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бщая задача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1989000"/>
            <a:ext cx="87850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 algn="ctr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nstantia"/>
              </a:rPr>
              <a:t>Сохранение и дальнейшее совершенствование региональной модели аттестации педагогических кадров в соответствии с современными требованиями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8BAD-A2FC-4843-B964-F3DAEBBD82B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4EC5-EF0A-4E86-80D8-37D3FC3BBEC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ttp//www.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mon.tatar.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Раздел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900ff"/>
                </a:solidFill>
                <a:uFillTx/>
                <a:latin typeface="Times New Roman"/>
              </a:rPr>
              <a:t>«Педагогическая аттестация»</a:t>
            </a: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Times New Roman"/>
              </a:rPr>
              <a:t>Тел. 294-95-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68360" y="260280"/>
            <a:ext cx="7947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айт Министерства образования 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и науки Республики Татарс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8EB1-3516-43DB-8169-7072E68EB1FF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639720" y="1560600"/>
            <a:ext cx="7894800" cy="210348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7272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nstantia"/>
              </a:rPr>
              <a:t>Министерство образования и науки Республики Татарс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Скругленный прямоугольник 15"/>
          <p:cNvSpPr/>
          <p:nvPr/>
        </p:nvSpPr>
        <p:spPr>
          <a:xfrm>
            <a:off x="3780000" y="4208400"/>
            <a:ext cx="5040000" cy="2139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5" descr="коллаж2"/>
          <p:cNvPicPr/>
          <p:nvPr/>
        </p:nvPicPr>
        <p:blipFill>
          <a:blip r:embed="rId2"/>
          <a:stretch/>
        </p:blipFill>
        <p:spPr>
          <a:xfrm>
            <a:off x="395280" y="3286080"/>
            <a:ext cx="8248680" cy="3114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8" descr="Герб Республики Татарстан"/>
          <p:cNvPicPr/>
          <p:nvPr/>
        </p:nvPicPr>
        <p:blipFill>
          <a:blip r:embed="rId3"/>
          <a:stretch/>
        </p:blipFill>
        <p:spPr>
          <a:xfrm>
            <a:off x="324000" y="255600"/>
            <a:ext cx="1511280" cy="137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йтинг муниципальных образований по наличию первой и высшей категории в 2014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Номер слайда 1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25D-5FF0-4450-AA85-657695D2EAA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7D16-B776-405D-A3B8-7FD947042DC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Объект 5" descr=""/>
          <p:cNvPicPr/>
          <p:nvPr/>
        </p:nvPicPr>
        <p:blipFill>
          <a:blip r:embed="rId1"/>
          <a:stretch/>
        </p:blipFill>
        <p:spPr>
          <a:xfrm>
            <a:off x="560520" y="1217520"/>
            <a:ext cx="8454960" cy="5316480"/>
          </a:xfrm>
          <a:prstGeom prst="rect">
            <a:avLst/>
          </a:prstGeom>
          <a:ln w="0">
            <a:noFill/>
          </a:ln>
        </p:spPr>
      </p:pic>
      <p:pic>
        <p:nvPicPr>
          <p:cNvPr id="225" name="Диаграмма 6" descr=""/>
          <p:cNvPicPr/>
          <p:nvPr/>
        </p:nvPicPr>
        <p:blipFill>
          <a:blip r:embed="rId2"/>
          <a:stretch/>
        </p:blipFill>
        <p:spPr>
          <a:xfrm>
            <a:off x="338040" y="1596960"/>
            <a:ext cx="84679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225360" y="950760"/>
            <a:ext cx="8491680" cy="398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http://kunelradio.ru/media/uploads/2012/08/01/pervoklaski.jpg"/>
          <p:cNvPicPr/>
          <p:nvPr/>
        </p:nvPicPr>
        <p:blipFill>
          <a:blip r:embed="rId2"/>
          <a:stretch/>
        </p:blipFill>
        <p:spPr>
          <a:xfrm>
            <a:off x="5148360" y="3933720"/>
            <a:ext cx="3781440" cy="24955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8:01:08Z</dcterms:created>
  <dc:creator>admin</dc:creator>
  <dc:description/>
  <dc:language>en-US</dc:language>
  <cp:lastModifiedBy>Shayahmetova</cp:lastModifiedBy>
  <cp:lastPrinted>2014-08-27T17:24:32Z</cp:lastPrinted>
  <dcterms:modified xsi:type="dcterms:W3CDTF">2014-08-27T17:25:49Z</dcterms:modified>
  <cp:revision>238</cp:revision>
  <dc:subject/>
  <dc:title>Слайд 1</dc:title>
</cp:coreProperties>
</file>